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45275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456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0368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85600" y="4343400"/>
            <a:ext cx="487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2C4A-69C2-46F4-AE49-42E841468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DB26-A3B2-41D3-A8C2-7AE186FC9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C61D-FB84-453E-92BC-F849F3A6B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095B-E475-4DBB-A634-AE6E6A283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68BD-DB11-4EC3-9BAC-CA4C2FE70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84AE-950E-45A8-80C8-9BA5D18A3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595D-65AF-4F98-827E-7CAC3F764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93A0-402A-4F39-A2FF-65F38B453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18EA-66B4-4C05-A4A7-9B083A470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A7A1-4A75-43E9-8B38-A1082E043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8125-00B8-4ACD-AEA0-7F6A0F7E4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69CD-1C0E-4407-8659-37F82D80F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AFDF-5004-4776-BF8E-F451C515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FC9D-C65D-4BDC-80E4-DE3E3DC19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1048-0174-46A0-AADA-9A834A2D0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229D-C884-4290-867E-61BB87457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4070-F155-45A2-B643-1125DC052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A277-0DE4-41F5-A1ED-83E7B3589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9FD5-E4D3-4FD3-A222-5E71BFB36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E9C2-442D-499F-875E-5ADCB5D38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E6A0-27AA-40D0-B9E3-0CA2724DA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7B77-0BF5-47C5-8672-AAADD1136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BC76-3258-4584-A092-350B065F2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3D87-1CD2-4575-A10C-BD2E1568C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6A8B-F3E3-401A-9737-FECF0A8E6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F06C-BD67-4004-B4C9-37EAFAA9A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028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774600"/>
            <a:ext cx="85028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3C5E-1E34-4E73-8A14-11F2B3862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77460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600" y="377460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1DC2-5866-450B-B271-2EC76B1BB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5480" y="190476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0800" y="190476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77460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5480" y="377460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0800" y="377460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E72B-0131-421E-ABFE-46E5CC82FD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904760"/>
            <a:ext cx="8502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0DB7-5431-4888-BAA6-7F1370DB0D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028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2B0F-EC47-47A9-892C-8486ED688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DA8A-83B8-449D-A8F0-57E68DB18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A2C8-3C52-4366-88F7-3F5466328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8196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76D0-C412-4A55-AD81-DA89F91BD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77460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00A3-9719-49D1-AB8A-76CD8AF9E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600" y="377460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BBCF-C5C9-471D-B071-7EB26A7FE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774600"/>
            <a:ext cx="85028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85AE-1848-4A96-A722-15F4736BC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04760"/>
            <a:ext cx="85028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461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390760" indent="-442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390760" indent="-4428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390760" indent="-4428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3416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27C5-026E-4CD9-A3B4-C48A9F750E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icrosoft.com/money/" TargetMode="External"/><Relationship Id="rId2" Type="http://schemas.openxmlformats.org/officeDocument/2006/relationships/hyperlink" Target="news://msnews.microsoft.com/microsoft.public.money" TargetMode="External"/><Relationship Id="rId3" Type="http://schemas.openxmlformats.org/officeDocument/2006/relationships/hyperlink" Target="news://msnews.microsoft.com/microsoft.public.money" TargetMode="External"/><Relationship Id="rId4" Type="http://schemas.openxmlformats.org/officeDocument/2006/relationships/hyperlink" Target="news://msnews.microsoft.com/microsoft.public.money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777240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Getting the Most Out of Microsoft Money 2001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arl Huntington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pport Professional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nsumer Support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icrosoft Corpora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7" name="PSSnew01Bann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Help Features in Money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Using the Help Pane: Examp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354040"/>
            <a:ext cx="83822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276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19320" y="3124080"/>
            <a:ext cx="144756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590920"/>
            <a:ext cx="5335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666880"/>
            <a:ext cx="1523880" cy="2819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5562720"/>
            <a:ext cx="16002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772400" y="365760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924320" y="5638680"/>
            <a:ext cx="38124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6A65-8D9C-45AB-BEC3-0B51209463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Help Features in Money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Help Pan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314080"/>
            <a:ext cx="83822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ing the Money Help pa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pane icons    1   2   3  4   5   6    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rying suggestions: troubleshoo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2819520"/>
          <a:ext cx="76089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76089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114800" y="4819680"/>
          <a:ext cx="2781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819680"/>
                    <a:ext cx="2781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66880" y="3124080"/>
            <a:ext cx="18288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304812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086600" y="4800600"/>
          <a:ext cx="35892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800600"/>
                    <a:ext cx="3589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78D7-6869-43EE-A21F-D1C3705AE46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Help Features in Money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Online Guide to Money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2354040"/>
            <a:ext cx="8382240" cy="99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he Online Guide off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ing the Online Guide to Mon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5240" y="3429000"/>
          <a:ext cx="762156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3429000"/>
                    <a:ext cx="76215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743200" y="3886200"/>
            <a:ext cx="14479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0807-C3E8-498F-BE77-891BD307DC2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elp Pane + Online Guide = Interactive Manual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297180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Gui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on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in Mone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5638680" cy="422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219320" y="3724200"/>
          <a:ext cx="1514520" cy="26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724200"/>
                    <a:ext cx="151452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4840-DC16-435C-981A-FDE042B031F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520" y="2354040"/>
            <a:ext cx="8502840" cy="99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Types of Servic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D329-0506-4B3B-A6B8-6546235F224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520" y="2354040"/>
            <a:ext cx="8502840" cy="38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n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r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7" name="securitytidbits" descr=""/>
          <p:cNvPicPr/>
          <p:nvPr/>
        </p:nvPicPr>
        <p:blipFill>
          <a:blip r:embed="rId1"/>
          <a:stretch/>
        </p:blipFill>
        <p:spPr>
          <a:xfrm>
            <a:off x="6400800" y="5105520"/>
            <a:ext cx="674640" cy="97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990720" y="2800440"/>
          <a:ext cx="3962160" cy="160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800440"/>
                    <a:ext cx="396216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57800" y="2362320"/>
            <a:ext cx="3562200" cy="2114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371484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8462-8C0C-45D8-BBC2-C27095B162D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520" y="2354040"/>
            <a:ext cx="8502840" cy="40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date Internet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ster Money on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66680" y="3048120"/>
          <a:ext cx="5133960" cy="25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48120"/>
                    <a:ext cx="513396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Before You Star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267080"/>
            <a:ext cx="19814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F54E-9E26-441F-AD7E-F6D73EFA2A7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520" y="2354400"/>
            <a:ext cx="850284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t online statemen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y bills electronicall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y to us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check your bank’s offer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Benefits of Web Banking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66680" y="4419720"/>
          <a:ext cx="60962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419720"/>
                    <a:ext cx="60962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438280" y="5105520"/>
            <a:ext cx="8384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8626-CE46-4EE9-AACA-0ACB458A56F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Determining Online Banking Offering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1447920"/>
          <a:ext cx="432432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432432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05320" y="2514600"/>
          <a:ext cx="4133880" cy="26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514600"/>
                    <a:ext cx="41338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924360" y="4343400"/>
          <a:ext cx="4914720" cy="19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343400"/>
                    <a:ext cx="49147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354040"/>
            <a:ext cx="8502840" cy="413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724280"/>
            <a:ext cx="11430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752480" y="48769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3886200"/>
            <a:ext cx="121896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95480" y="411444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5943600"/>
            <a:ext cx="11430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581280" y="6110280"/>
            <a:ext cx="2249640" cy="61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42BB-9ABE-4305-8F45-A0859A297A5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tting Up Web Banking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447920"/>
          <a:ext cx="610740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610740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2354040"/>
            <a:ext cx="8502840" cy="36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3200400"/>
            <a:ext cx="19047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657600" y="2895480"/>
          <a:ext cx="4781520" cy="325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895480"/>
                    <a:ext cx="478152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657600" y="4952880"/>
            <a:ext cx="25146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990720" y="3428640"/>
            <a:ext cx="7617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819520" y="51814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47D3-A352-4325-8A09-8D14B8FDC34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hat We Will Cov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0284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ting from a previous ver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oring from a backup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A7D7-55F5-47FC-9D57-F71BEE0DD5B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tting Up Web Banking (2)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354400"/>
            <a:ext cx="850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19200" y="1743120"/>
          <a:ext cx="610704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743120"/>
                    <a:ext cx="610704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447920" y="3809880"/>
            <a:ext cx="13716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4952880"/>
            <a:ext cx="41911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CAAE-9973-40DC-9E9A-D0299CA3CCB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2354040"/>
            <a:ext cx="8502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stat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bill pay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ic payments (Apa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nic payments (Epay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transfers (Xfe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Benefits of Direct Online Servic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EB4F-B991-4E14-A7D4-4BBC08199DD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tting Up Direct Online Servic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09480" y="1600200"/>
          <a:ext cx="36291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36291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981080" y="3200400"/>
            <a:ext cx="9907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571920" y="2306520"/>
          <a:ext cx="389556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920" y="2306520"/>
                    <a:ext cx="38955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981080" y="4419720"/>
          <a:ext cx="5859720" cy="21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419720"/>
                    <a:ext cx="58597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800600" y="4038480"/>
            <a:ext cx="16765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990720" y="3352320"/>
            <a:ext cx="9903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181480"/>
            <a:ext cx="2286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2354400"/>
            <a:ext cx="850284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990720" y="4191120"/>
            <a:ext cx="3809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6172200"/>
            <a:ext cx="17528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D0AC-290E-4CB8-B058-5F85B2D9585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tting Up Direct Online Services (2)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0880" y="2354400"/>
            <a:ext cx="85028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up 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y 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027080" y="2819520"/>
          <a:ext cx="575460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2819520"/>
                    <a:ext cx="57546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5370480" y="396252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343480" y="4791240"/>
          <a:ext cx="143820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3480" y="4791240"/>
                    <a:ext cx="14382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5B54-00E9-42DF-A17E-3604610961F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066680" y="2943360"/>
          <a:ext cx="48769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43360"/>
                    <a:ext cx="48769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elpful Online Hint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2354400"/>
            <a:ext cx="850284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ing automatic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Service Help top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ubleshoo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3857760"/>
            <a:ext cx="43434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3324240"/>
            <a:ext cx="9144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2CA2-6D9C-47DF-818C-0B7FCB18492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ditional Information About Microsoft Mone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2354400"/>
            <a:ext cx="8502840" cy="221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Home P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89ff"/>
                </a:solidFill>
                <a:uFillTx/>
                <a:latin typeface="Arial"/>
                <a:hlinkClick r:id="rId1"/>
              </a:rPr>
              <a:t>http://www.microsoft.com/money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Newsgro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89ff"/>
                </a:solidFill>
                <a:uFillTx/>
                <a:latin typeface="Arial"/>
                <a:hlinkClick r:id="rId2"/>
              </a:rPr>
              <a:t>News://</a:t>
            </a:r>
            <a:r>
              <a:rPr b="1" lang="en-US" sz="2400" spc="-1" strike="noStrike" u="sng">
                <a:solidFill>
                  <a:srgbClr val="b089ff"/>
                </a:solidFill>
                <a:uFillTx/>
                <a:latin typeface="Arial"/>
                <a:hlinkClick r:id="rId3"/>
              </a:rPr>
              <a:t>msnews</a:t>
            </a:r>
            <a:r>
              <a:rPr b="1" lang="en-US" sz="2400" spc="-1" strike="noStrike" u="sng">
                <a:solidFill>
                  <a:srgbClr val="b089ff"/>
                </a:solidFill>
                <a:uFillTx/>
                <a:latin typeface="Arial"/>
                <a:hlinkClick r:id="rId4"/>
              </a:rPr>
              <a:t>.microsoft.com/microsoft.public.money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9713-34BA-43F8-BF7E-C687F7A33A1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Brand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SSnew01Bann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onverting a File from a Previous Version of Mone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2354040"/>
            <a:ext cx="85028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st opened file will conve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sion creates *.m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i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ting other Money fil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55520" y="4038480"/>
          <a:ext cx="610740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4038480"/>
                    <a:ext cx="61074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4572000"/>
            <a:ext cx="9144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45ED-4FD5-4AEE-9251-1BB6A2EFFE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onverting Other Money Fil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2354040"/>
            <a:ext cx="39625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 direc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 the file ty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he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419720" y="2438280"/>
          <a:ext cx="40575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438280"/>
                    <a:ext cx="40575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800600" y="2590920"/>
            <a:ext cx="2590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590920"/>
            <a:ext cx="7621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1240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572000"/>
            <a:ext cx="24382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073C-D88E-46F9-BBB1-84F5778A6DB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oring a Money Backup File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Things to Know About Restoring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354040"/>
            <a:ext cx="83822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ly open file is not overwrit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act bank if using 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oring from different lo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43000" y="4038480"/>
          <a:ext cx="610704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38480"/>
                    <a:ext cx="610704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066680" y="5486400"/>
            <a:ext cx="14479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8B0D-F6D2-4325-BA84-D46257CD70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48320" y="3962520"/>
          <a:ext cx="3962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962520"/>
                    <a:ext cx="3962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354040"/>
            <a:ext cx="4191120" cy="252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“Restore from a backup file”, and then click “Nex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one of the two options to restore a backup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oring a Money Backup File 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How to Restore a Backup Fi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648320" y="1523880"/>
          <a:ext cx="3962160" cy="21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523880"/>
                    <a:ext cx="396216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1AFE-E0EA-497C-A0A4-4CF364B4FA8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2354400"/>
            <a:ext cx="4191120" cy="28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 the file location if need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ore a different backup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oring a Money Backup File 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Restore from Default Backup Fi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3962520" cy="16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396252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C838-E2D6-4CD6-8DCB-5766C99984D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48320" y="1523880"/>
          <a:ext cx="3962160" cy="21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880" y="2354400"/>
            <a:ext cx="41911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 the file to rest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“Select other backup fil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oring a Money Backup File 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Opening a Different Backup Fi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8320" y="3733920"/>
            <a:ext cx="405756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D0BF-6CCD-417F-8D8B-C78A663434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66680" y="2590920"/>
          <a:ext cx="610740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90920"/>
                    <a:ext cx="61074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666880" y="4191120"/>
            <a:ext cx="411480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elp Features in Mone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0284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media Help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Pane in Mon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Guide to Mon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7585-7203-4E4B-B47C-1585591E52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1T21:27:16Z</dcterms:created>
  <dc:creator>heidimoe</dc:creator>
  <dc:description/>
  <dc:language>en-US</dc:language>
  <cp:lastModifiedBy>Microsoft Corporation</cp:lastModifiedBy>
  <cp:lastPrinted>2000-11-07T22:55:15Z</cp:lastPrinted>
  <dcterms:modified xsi:type="dcterms:W3CDTF">2000-11-08T00:06:42Z</dcterms:modified>
  <cp:revision>79</cp:revision>
  <dc:subject/>
  <dc:title>Title    Name Title Department Microsoft Corporation</dc:title>
</cp:coreProperties>
</file>