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5275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456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85600" y="4343400"/>
            <a:ext cx="487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85C-FEF2-40FF-B926-4BD22B97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8507-D2D3-4A19-8002-E5E49EF8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003B-1735-4A68-9154-76C02F486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D9E6-C842-4C83-B1C9-CB381D6C4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6037-92EC-4FB6-983E-294B69C8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06C9-8CB1-4FD9-BE0A-2E735C36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B657-5EBC-4BE0-8642-04E775C6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20E9-360C-477C-8F9C-C1CC68A6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B684-F33B-4FE7-8A7A-D471189B2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C683-7E7D-4C3D-9387-171598A2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812C-B378-48F5-938B-B6A36322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93B1-D61B-4258-BF98-215A3B77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EA0E-E2AA-433E-B8CC-DBB84A04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00CA-C0F3-4E4C-93E8-6657F6CD7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862F-C0E4-46C3-AC5E-AB3496D3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5AA0-E51D-4D54-B698-D38E779C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69C-5346-4AB4-B908-983E4C7A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D1B4-DE00-4124-96A4-AB02FD28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46F5-5651-4956-B0D1-9452039F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2143-F25E-43DD-B7D3-C80E3B799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E559-A365-4F19-95BB-3C60AD74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D8E7-6173-44F4-A04F-7508F055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5B2C-E27D-43C8-928A-A87964649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89F7-F6FE-4426-A9D8-156AACE5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DBF9-333E-4D00-9D11-6B834AD6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2E18-2C83-4DC4-8A85-668BDFC35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77460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E920-1E99-4881-8FC1-9BEBD9F6B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60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A9D4-F5EC-4872-BD7D-6AC9901A8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548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80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548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80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AE7A-AA09-4150-8A5C-BB1B3DD3B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F0FD-208E-45A8-A09E-644D58D73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46A6-BC7E-4802-8B76-EE07E38CF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51DA-47C5-4AD5-AD00-835A6B1C4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AC76-56E2-41B0-864C-500260875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8196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890F-5A7D-4733-84BB-C726DDF50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74EC-18EC-47DC-A1B4-A24E0722A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60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A1D9-EC4A-4098-BB74-BC276A9FF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FEEB-7964-4A91-9532-72C8E0230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461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90760" indent="-442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390760" indent="-4428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390760" indent="-4428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416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194F-0DE0-413F-BB29-088B8829A7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icrosoft.com/money/" TargetMode="External"/><Relationship Id="rId2" Type="http://schemas.openxmlformats.org/officeDocument/2006/relationships/hyperlink" Target="news://msnews.microsoft.com/microsoft.public.money" TargetMode="External"/><Relationship Id="rId3" Type="http://schemas.openxmlformats.org/officeDocument/2006/relationships/hyperlink" Target="news://msnews.microsoft.com/microsoft.public.money" TargetMode="External"/><Relationship Id="rId4" Type="http://schemas.openxmlformats.org/officeDocument/2006/relationships/hyperlink" Target="news://msnews.microsoft.com/microsoft.public.money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4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Getting the Most Out of Microsoft Money 2001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arl Huntington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pport Professional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sumer Support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icrosoft Corpora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" name="PSSnew01Ban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Using the Help Pane: Examp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276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3124080"/>
            <a:ext cx="144756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590920"/>
            <a:ext cx="5335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666880"/>
            <a:ext cx="1523880" cy="2819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5562720"/>
            <a:ext cx="1600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772400" y="365760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924320" y="5638680"/>
            <a:ext cx="38124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FF8E-F88E-41A4-AE86-9F475F562A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Help Pan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314080"/>
            <a:ext cx="83822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ing the Money Help pa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pane icons    1   2   3  4   5   6   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rying suggestions: troubleshoo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2819520"/>
          <a:ext cx="76089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76089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114800" y="4819680"/>
          <a:ext cx="2781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819680"/>
                    <a:ext cx="2781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66880" y="3124080"/>
            <a:ext cx="1828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30481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086600" y="4800600"/>
          <a:ext cx="35892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800600"/>
                    <a:ext cx="3589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EFAC-AE11-4E75-8317-F60924AD5C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Online Guide to Mone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 Online Guide off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ing the Online Guide 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5240" y="3429000"/>
          <a:ext cx="762156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3429000"/>
                    <a:ext cx="7621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743200" y="3886200"/>
            <a:ext cx="14479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7B64-BDFA-49E0-912B-C8C2D1E88D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 Pane + Online Guide = Interactive Manual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97180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Gui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in Mone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5638680" cy="42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219320" y="3724200"/>
          <a:ext cx="1514520" cy="26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724200"/>
                    <a:ext cx="15145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0D15-7966-4BAF-8967-C028133893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Types of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5083-273B-4437-8DDA-32BCD926900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38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n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r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securitytidbits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674640" cy="97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990720" y="2800440"/>
          <a:ext cx="3962160" cy="160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00440"/>
                    <a:ext cx="396216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3562200" cy="2114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371484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BEB3-63BA-40C1-97F4-405ABCD1EDC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40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 Interne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er Money on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3048120"/>
          <a:ext cx="513396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513396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fore You Star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267080"/>
            <a:ext cx="19814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0B77-3221-43DF-95CB-F196020B14D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 online statemen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y bills electronicall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y to us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check your bank’s offe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nefits of Web Bank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4419720"/>
          <a:ext cx="60962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419720"/>
                    <a:ext cx="60962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438280" y="5105520"/>
            <a:ext cx="8384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D626-EEFB-46DB-873B-2EA2C256A6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Determining Online Banking Offering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1447920"/>
          <a:ext cx="432432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43243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2514600"/>
          <a:ext cx="41338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514600"/>
                    <a:ext cx="41338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24360" y="4343400"/>
          <a:ext cx="491472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343400"/>
                    <a:ext cx="49147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413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7242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752480" y="48769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886200"/>
            <a:ext cx="121896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95480" y="411444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5943600"/>
            <a:ext cx="1143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81280" y="6110280"/>
            <a:ext cx="2249640" cy="61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66F5-6872-4879-8232-840B0252BC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Web Bank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447920"/>
          <a:ext cx="610740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61074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36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200400"/>
            <a:ext cx="19047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657600" y="2895480"/>
          <a:ext cx="4781520" cy="32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895480"/>
                    <a:ext cx="478152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657600" y="4952880"/>
            <a:ext cx="25146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90720" y="3428640"/>
            <a:ext cx="761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819520" y="51814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A5E7-7AD0-46CC-A5F9-C10153E9335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at We Will Cov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0284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ting from a previous ve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ing from a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FFEE-52C0-44C0-9C85-E7FCB26AE07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Web Banking (2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19200" y="1743120"/>
          <a:ext cx="61070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43120"/>
                    <a:ext cx="61070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447920" y="3809880"/>
            <a:ext cx="13716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4952880"/>
            <a:ext cx="4191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55FA-1471-414F-BC15-D7128BC3B3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tat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bill pay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payments (Apa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payments (Epay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transfers (Xf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nefits of Direct Online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8025-7360-4012-BF6F-34DC4A72EB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Direct Online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1600200"/>
          <a:ext cx="36291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36291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981080" y="3200400"/>
            <a:ext cx="9907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571920" y="2306520"/>
          <a:ext cx="389556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2306520"/>
                    <a:ext cx="38955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81080" y="4419720"/>
          <a:ext cx="5859720" cy="21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19720"/>
                    <a:ext cx="5859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00600" y="4038480"/>
            <a:ext cx="16765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90720" y="3352320"/>
            <a:ext cx="9903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181480"/>
            <a:ext cx="2286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90720" y="4191120"/>
            <a:ext cx="3809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6172200"/>
            <a:ext cx="17528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519B-03E1-4E74-A135-26A9190D491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Direct Online Services (2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235440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up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y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27080" y="2819520"/>
          <a:ext cx="575460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2819520"/>
                    <a:ext cx="5754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5370480" y="39625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43480" y="4791240"/>
          <a:ext cx="143820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3480" y="4791240"/>
                    <a:ext cx="1438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955E-FAB9-4258-B17F-1F5FD729D0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066680" y="2943360"/>
          <a:ext cx="48769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43360"/>
                    <a:ext cx="48769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ful Online Hin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ing automat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ervice Help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ubleshoo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857760"/>
            <a:ext cx="43434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324240"/>
            <a:ext cx="9144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FACD-BA4B-4FD4-BFBE-00923BB19F1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ditional Information About Microsoft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2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Home P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1"/>
              </a:rPr>
              <a:t>http://www.microsoft.com/money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News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2"/>
              </a:rPr>
              <a:t>News://</a:t>
            </a: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3"/>
              </a:rPr>
              <a:t>msnews</a:t>
            </a: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4"/>
              </a:rPr>
              <a:t>.microsoft.com/microsoft.public.money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A379-E846-4257-BAFA-D02FE371BF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Brand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SSnew01Bann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nverting a File from a Previous Version of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st opened file will conve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sion creates *.m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i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ting other Money fil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55520" y="4038480"/>
          <a:ext cx="61074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4038480"/>
                    <a:ext cx="61074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4572000"/>
            <a:ext cx="9144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79F8-A9A7-4E36-8A3B-BDD4AE5073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nverting Other Money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39625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file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he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419720" y="2438280"/>
          <a:ext cx="40575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438280"/>
                    <a:ext cx="40575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800600" y="2590920"/>
            <a:ext cx="2590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590920"/>
            <a:ext cx="7621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1240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57200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A2A8-8209-4EEA-8FE0-B31345B9C4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Things to Know About Restor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 open file is not overwrit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 bank if using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ing from different 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4038480"/>
          <a:ext cx="610704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1070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66680" y="5486400"/>
            <a:ext cx="14479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519D-66AC-4DC8-8F52-E1D10DC0AC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48320" y="3962520"/>
          <a:ext cx="3962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962520"/>
                    <a:ext cx="3962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354040"/>
            <a:ext cx="4191120" cy="25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“Restore from a backup file”, and then click “Nex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one of the two options to restore a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How to Restore a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48320" y="1523880"/>
          <a:ext cx="3962160" cy="21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23880"/>
                    <a:ext cx="39621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883A-AC7C-445C-91E8-C5F356BCF3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2354400"/>
            <a:ext cx="4191120" cy="28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the file location if nee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e a different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Restore from Default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962520" cy="16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396252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DF77-9581-4991-B1AE-6BA1B1FCFC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48320" y="1523880"/>
          <a:ext cx="3962160" cy="21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2354400"/>
            <a:ext cx="41911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file to rest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“Select other backup fil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Opening a Different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405756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9F01-611C-4393-85A6-112EF59C7C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2590920"/>
          <a:ext cx="610740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61074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666880" y="4191120"/>
            <a:ext cx="411480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 Features in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media Help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Pane in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Guide 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9E19-2044-4CEE-B1E6-A8C6B0FC5B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21:27:16Z</dcterms:created>
  <dc:creator>heidimoe</dc:creator>
  <dc:description/>
  <dc:language>en-US</dc:language>
  <cp:lastModifiedBy>Microsoft Corporation</cp:lastModifiedBy>
  <cp:lastPrinted>2000-11-07T22:55:15Z</cp:lastPrinted>
  <dcterms:modified xsi:type="dcterms:W3CDTF">2000-11-08T00:06:42Z</dcterms:modified>
  <cp:revision>79</cp:revision>
  <dc:subject/>
  <dc:title>Title    Name Title Department Microsoft Corporation</dc:title>
</cp:coreProperties>
</file>