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5275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456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0368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85600" y="4343400"/>
            <a:ext cx="487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1CE-DBCF-47F2-BFA6-A1B1BCD9D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1B6D-6FE6-4FB3-91C5-03BAA82C4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7E6-0210-4CB6-B052-BC279C79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AA4E-C4B7-4909-B6A7-6FD9FB6F3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4ED6-0656-44BC-8005-43DED57E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2E2F-B296-45AC-BA23-238A8163E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6743-3D2D-4841-BC56-B1136805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989E-0992-48DA-9D54-6C18FBCE2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6358-C3F6-41A4-8E9C-109A1ABF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8789-3814-444B-8C90-BFB90988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C86-1827-47B2-9D64-BB238FD61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611A-3A89-4DC9-9586-EEEA3A2C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CAA6-347B-4DC7-BD65-C58B73073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E9AB-A582-402F-8FE8-25A247DA7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9538-370B-47F1-BC57-777C0F2E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D08-7187-4D27-AFF8-C2CF5361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1008-C092-405B-A574-6175D230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FBD4-3951-4410-8AF8-8E0140009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F5B5-4556-4904-8071-9D7C1F493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9DC4-24EF-42C6-B8EB-A14005CA1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FC88-8F1C-4B8D-82F1-1A8DF8BAC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5D18-E7BF-4161-A4E7-A0D19F3F1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99B-7C09-42E8-93EF-A7FAAB22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5206-124C-4F77-9343-0217D5AE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76524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353-5B39-45AD-A85D-C90F5370A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868680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765240" y="0"/>
            <a:ext cx="287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03500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71200" y="4341960"/>
            <a:ext cx="490212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A3F2E-7FDD-4EEC-94E6-44C1BB2AD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AE74-34ED-49B1-9A1F-0E144B192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D057-B003-4C63-BB6F-3ACDF5DBCF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548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0800" y="190476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548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0800" y="3774600"/>
            <a:ext cx="273780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B80D-CCF9-4287-9CED-DB8F682BF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ED586-7C37-4125-878F-895D52F2B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6219-CDE2-4A35-B26E-5DF748175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C13F5-1FD5-4D5F-9502-4F1690737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2B09-A3E3-4D8A-9DB9-335DF287B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8196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07BC-3863-49A6-9A07-D52071168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790C-C9C6-49CD-B9BC-00C706F18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600" y="377460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3751-216C-4C51-BA4F-5705A4D56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600" y="1904760"/>
            <a:ext cx="4149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774600"/>
            <a:ext cx="850284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11CF-6F11-4D31-98A6-55F2E817D1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90476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61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90760" indent="-442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90760" indent="-44280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3416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4AF6-528B-4C7D-AF02-22DE954F47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icrosoft.com/money/" TargetMode="External"/><Relationship Id="rId2" Type="http://schemas.openxmlformats.org/officeDocument/2006/relationships/hyperlink" Target="news://msnews.microsoft.com/microsoft.public.money" TargetMode="External"/><Relationship Id="rId3" Type="http://schemas.openxmlformats.org/officeDocument/2006/relationships/hyperlink" Target="news://msnews.microsoft.com/microsoft.public.money" TargetMode="External"/><Relationship Id="rId4" Type="http://schemas.openxmlformats.org/officeDocument/2006/relationships/hyperlink" Target="news://msnews.microsoft.com/microsoft.public.money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4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Getting the Most Out of Microsoft Money 2001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arl Huntington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Support Professional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onsumer Support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Microsoft Corporation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7" name="PSSnew01Ban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Using the Help Pane: Examp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276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19320" y="3124080"/>
            <a:ext cx="144756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590920"/>
            <a:ext cx="5335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666880"/>
            <a:ext cx="1523880" cy="2819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5562720"/>
            <a:ext cx="16002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7772400" y="3657600"/>
            <a:ext cx="5335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7924320" y="5638680"/>
            <a:ext cx="38124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D945A-3E87-4E20-9D77-AC3D792829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elp Pan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2314080"/>
            <a:ext cx="83822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Money Help pa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cons    1   2   3  4   5   6    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rying suggestions: troubleshoo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2819520"/>
          <a:ext cx="76089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76089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4114800" y="4819680"/>
          <a:ext cx="2781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819680"/>
                    <a:ext cx="2781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66880" y="3124080"/>
            <a:ext cx="18288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3048120"/>
            <a:ext cx="4572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086600" y="4800600"/>
          <a:ext cx="358920" cy="37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800600"/>
                    <a:ext cx="35892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FFCC-FFFC-4E6C-8B4A-82158125596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Using Help Features in Money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the Online Guide off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ing the 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065240" y="3429000"/>
          <a:ext cx="762156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3429000"/>
                    <a:ext cx="76215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43200" y="3886200"/>
            <a:ext cx="14479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C31F-1166-4CBF-A204-6EAF01F1B1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Pane + Online Guide = Interactive Manual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297180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in Mone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2133720"/>
            <a:ext cx="5638680" cy="42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219320" y="3724200"/>
          <a:ext cx="1514520" cy="26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724200"/>
                    <a:ext cx="15145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2571-953A-4BA7-8D7C-5A006FF6D0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99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ba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ypes of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648DC-EEF9-420F-BE40-EAE1346CF48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8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n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r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curity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securitytidbits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674640" cy="97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990720" y="2800440"/>
          <a:ext cx="3962160" cy="160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800440"/>
                    <a:ext cx="396216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3562200" cy="2114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066680" y="371484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78B7-694D-418F-8F58-69B124B9176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0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Interne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ster Money on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3048120"/>
          <a:ext cx="513396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048120"/>
                    <a:ext cx="513396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fore You Star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267080"/>
            <a:ext cx="1981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AEF4-0B87-444E-B7F3-F4859B696D0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 online statem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y bills electronicall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y to us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check your bank’s offe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66680" y="4419720"/>
          <a:ext cx="60962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419720"/>
                    <a:ext cx="60962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438280" y="5105520"/>
            <a:ext cx="8384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4706D-0CEE-42B3-80F2-E7FD0A59D33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Determining Online Banking Offering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1447920"/>
          <a:ext cx="432432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43243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2514600"/>
          <a:ext cx="41338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514600"/>
                    <a:ext cx="41338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24360" y="4343400"/>
          <a:ext cx="4914720" cy="197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24360" y="4343400"/>
                    <a:ext cx="49147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413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4724280"/>
            <a:ext cx="11430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752480" y="4876920"/>
            <a:ext cx="45720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05320" y="3886200"/>
            <a:ext cx="121896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95480" y="411444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5943600"/>
            <a:ext cx="11430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81280" y="6110280"/>
            <a:ext cx="2249640" cy="61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D11F-7BCB-483D-8020-CD2938F21C3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1447920"/>
          <a:ext cx="6107400" cy="25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610740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36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200400"/>
            <a:ext cx="190476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657600" y="2895480"/>
          <a:ext cx="478152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2895480"/>
                    <a:ext cx="478152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657600" y="4952880"/>
            <a:ext cx="25146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990720" y="3428640"/>
            <a:ext cx="76176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819520" y="5181480"/>
            <a:ext cx="8380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3F9F-9944-4883-AA74-35905168F29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What We Will Cover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0284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from a previous ve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86DC-D03B-4E91-8676-D80E2EEAAA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Web Banking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19200" y="1743120"/>
          <a:ext cx="610704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43120"/>
                    <a:ext cx="610704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1447920" y="3809880"/>
            <a:ext cx="13716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4952880"/>
            <a:ext cx="419112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4846-ACF4-4C80-8B18-D0890B85DBD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2354040"/>
            <a:ext cx="8502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tat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bill pay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matic payments (Apa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payments (Epay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transfers (Xfe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Benefits of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B3AA-0ED3-4F77-A068-E328533A9D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09480" y="1600200"/>
          <a:ext cx="362916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36291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981080" y="3200400"/>
            <a:ext cx="9907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571920" y="2306520"/>
          <a:ext cx="3895560" cy="21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920" y="2306520"/>
                    <a:ext cx="389556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981080" y="4419720"/>
          <a:ext cx="5859720" cy="21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19720"/>
                    <a:ext cx="58597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00600" y="4038480"/>
            <a:ext cx="16765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990720" y="3352320"/>
            <a:ext cx="9903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181480"/>
            <a:ext cx="2286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990720" y="4191120"/>
            <a:ext cx="3809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6172200"/>
            <a:ext cx="17528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46B3-25DE-4F44-AD41-C69060FD72F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Online Services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Setting Up Direct Online Services (2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80880" y="2354400"/>
            <a:ext cx="850284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up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y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027080" y="2819520"/>
          <a:ext cx="575460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2819520"/>
                    <a:ext cx="575460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5370480" y="3962520"/>
            <a:ext cx="11430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43480" y="4791240"/>
          <a:ext cx="143820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43480" y="4791240"/>
                    <a:ext cx="1438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6B0C9-C656-43E1-A323-234BDC3A7E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066680" y="2943360"/>
          <a:ext cx="48769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43360"/>
                    <a:ext cx="48769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ful Online Hint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ng automatic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Service Help top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oubleshoo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3857760"/>
            <a:ext cx="4343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3324240"/>
            <a:ext cx="91440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9599-C526-49BC-AF68-F04F8B20A1E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dditional Information About Microsoft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354400"/>
            <a:ext cx="8502840" cy="22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Home P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1"/>
              </a:rPr>
              <a:t>http://www.microsoft.com/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News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2"/>
              </a:rPr>
              <a:t>News://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3"/>
              </a:rPr>
              <a:t>msnews</a:t>
            </a:r>
            <a:r>
              <a:rPr b="1" lang="en-US" sz="2400" spc="-1" strike="noStrike" u="sng">
                <a:solidFill>
                  <a:srgbClr val="b089ff"/>
                </a:solidFill>
                <a:uFillTx/>
                <a:latin typeface="Arial"/>
                <a:hlinkClick r:id="rId4"/>
              </a:rPr>
              <a:t>.microsoft.com/microsoft.public.money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A7AB-93A4-4840-8AB2-CE18712764C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rand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SSnew01Bann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a File from a Previous Version of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85028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st opened file will conve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creates *.m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i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ting other Money fil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55520" y="4038480"/>
          <a:ext cx="610740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5520" y="4038480"/>
                    <a:ext cx="61074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066680" y="4572000"/>
            <a:ext cx="91440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011FC-DAA4-441C-8317-A170B938E64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onverting Other Money Fil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354040"/>
            <a:ext cx="39625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dire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yp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he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419720" y="2438280"/>
          <a:ext cx="40575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438280"/>
                    <a:ext cx="40575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4800600" y="2590920"/>
            <a:ext cx="2590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2590920"/>
            <a:ext cx="7621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7600" y="3124080"/>
            <a:ext cx="144792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572000"/>
            <a:ext cx="243828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7830-F2CE-4A62-A6D1-F772C9B3115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Things to Know About Restoring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354040"/>
            <a:ext cx="838224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open file is not overwrit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 bank if using Onlin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ing from different 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143000" y="4038480"/>
          <a:ext cx="61070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1070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066680" y="5486400"/>
            <a:ext cx="144792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83A7-3A76-4FC5-B7DA-E0BF31ED5C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648320" y="3962520"/>
          <a:ext cx="3962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3962520"/>
                    <a:ext cx="3962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80880" y="2354040"/>
            <a:ext cx="4191120" cy="252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Restore from a backup file”, and then click “Next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one of the two options to restore a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How to Restore a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882E-3B75-464F-9A64-E8F6D5EFB9B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8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the file location if nee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tore a different backup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Restore from Defaul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3962520" cy="16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96252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3AB4-4B22-4FDA-8301-A8DBA73548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48320" y="1523880"/>
          <a:ext cx="3962160" cy="21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80880" y="2354400"/>
            <a:ext cx="4191120" cy="22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lect the file to rest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“Select other backup file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estoring a Money Backup File </a:t>
            </a:r>
            <a:br>
              <a:rPr sz="2800"/>
            </a:br>
            <a:r>
              <a:rPr b="1" lang="en-US" sz="2800" spc="-1" strike="noStrike">
                <a:solidFill>
                  <a:srgbClr val="67d7ff"/>
                </a:solidFill>
                <a:latin typeface="Arial"/>
              </a:rPr>
              <a:t>Opening a Different Backup Fil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648320" y="3733920"/>
            <a:ext cx="4057560" cy="280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E200-672C-4A32-9C93-CAA412DF3A8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1360" y="5581800"/>
            <a:ext cx="807732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00120" indent="-60012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590920"/>
          <a:ext cx="6107400" cy="27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90920"/>
                    <a:ext cx="610740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666880" y="4191120"/>
            <a:ext cx="411480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819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Help Features in Money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0284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media Help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p Pane in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ine Guide to Mon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E9A1-7EED-4328-BF57-DF69E41E07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21:27:16Z</dcterms:created>
  <dc:creator>heidimoe</dc:creator>
  <dc:description/>
  <dc:language>en-US</dc:language>
  <cp:lastModifiedBy>Microsoft Corporation</cp:lastModifiedBy>
  <cp:lastPrinted>2000-11-07T22:55:15Z</cp:lastPrinted>
  <dcterms:modified xsi:type="dcterms:W3CDTF">2000-11-08T00:06:42Z</dcterms:modified>
  <cp:revision>79</cp:revision>
  <dc:subject/>
  <dc:title>Title    Name Title Department Microsoft Corporation</dc:title>
</cp:coreProperties>
</file>